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FBA9-898B-4F64-83CE-09040DA081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午後ティービスケットの不思議な点⇒このコラボのなぜ？を書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選んだ経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研究対象の午後ティービスケットを例とし、「進出したブランド」とするものを明らか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芸能人プロデュース　キャラクター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A4D-E80E-4E04-9120-3BE52C4F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9B9-A867-4673-BDD0-607D0CD0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8E3-F7F7-499D-AD5D-3CA6E238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80D-8DEF-4CE9-B518-637CE2CF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B88-6E25-4971-A880-961F7E7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AF7-F391-4189-855C-288C8536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AC2-BCA6-4ADA-84CA-A91DFF95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03D-63B2-43BE-A5CF-F4B47690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A99-E071-4D99-8B42-FCEA208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914-C9F0-4567-A6D3-BB4E8ACC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053-5FC8-46DF-86A0-F8DD06DC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586-25C5-4827-B02A-BB3B0B81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CEC3-3FEA-401B-B482-417B053C1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コラボレーション商品が　　　　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消費者認知へ与える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殖大学　田嶋ゼミナ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荻野仁史・近藤藤太・坂本理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佐藤拓馬・清水勝彦・陳　文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1D7-9F2F-4FC3-B328-B7EFC7E953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3528720" cy="308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83280" y="3573360"/>
            <a:ext cx="3960720" cy="2640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41300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見でコラボレーションと判断でき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5840" y="2133720"/>
            <a:ext cx="1838160" cy="1296720"/>
          </a:xfrm>
          <a:prstGeom prst="wedgeRoundRectCallout">
            <a:avLst>
              <a:gd name="adj1" fmla="val -30222"/>
              <a:gd name="adj2" fmla="val 83662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ッポ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637000"/>
            <a:ext cx="936720" cy="1079280"/>
          </a:xfrm>
          <a:prstGeom prst="downArrow">
            <a:avLst>
              <a:gd name="adj1" fmla="val 50000"/>
              <a:gd name="adj2" fmla="val 28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57720"/>
            <a:ext cx="48974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Arial"/>
              </a:rPr>
              <a:t>消費者がコラボレーショ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Arial"/>
              </a:rPr>
              <a:t>商品と認知できな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5661000"/>
            <a:ext cx="7127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コラボレーション商品から除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189000"/>
            <a:ext cx="7056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ッポ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ファミリーマートのコラボレーショ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にぎ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309-8B7F-4E28-80E2-B3A92FABD0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研究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CB5-E4B9-4CA3-9E43-BE46DE4478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この季節限定の紅茶によくあうコラボフレーバーが登場！"/>
          <p:cNvPicPr/>
          <p:nvPr/>
        </p:nvPicPr>
        <p:blipFill>
          <a:blip r:embed="rId1"/>
          <a:stretch/>
        </p:blipFill>
        <p:spPr>
          <a:xfrm>
            <a:off x="4500720" y="1254240"/>
            <a:ext cx="4319280" cy="3462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コラボレ－ション商品の実例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午後の紅茶ビスケット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869000"/>
            <a:ext cx="813744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菓売場で、飲料ブランドが進出することでの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消費者への認知に関する影響はなんだろう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700280"/>
            <a:ext cx="3384720" cy="14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製菓売場で、飲料ブラン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ある午後の紅茶を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して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3213000"/>
            <a:ext cx="71640" cy="1513080"/>
          </a:xfrm>
          <a:custGeom>
            <a:avLst/>
            <a:gdLst>
              <a:gd name="textAreaLeft" fmla="*/ 20880 w 71640"/>
              <a:gd name="textAreaRight" fmla="*/ 72000 w 71640"/>
              <a:gd name="textAreaTop" fmla="*/ 63000 h 1513080"/>
              <a:gd name="textAreaBottom" fmla="*/ 145008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3500280"/>
            <a:ext cx="28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意外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鮮さ　　など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205000"/>
            <a:ext cx="576000" cy="2225880"/>
          </a:xfrm>
          <a:custGeom>
            <a:avLst/>
            <a:gdLst>
              <a:gd name="textAreaLeft" fmla="*/ 77040 w 576000"/>
              <a:gd name="textAreaRight" fmla="*/ 498960 w 576000"/>
              <a:gd name="textAreaTop" fmla="*/ 394560 h 2225880"/>
              <a:gd name="textAreaBottom" fmla="*/ 1588320 h 222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59" stAng="-5400000" swAng="-5400000"/>
                <a:lnTo>
                  <a:pt x="0" y="11583"/>
                </a:lnTo>
                <a:arcTo wR="21600" hR="7659" stAng="10800000" swAng="-2181397"/>
                <a:lnTo>
                  <a:pt x="12226" y="20841"/>
                </a:lnTo>
                <a:lnTo>
                  <a:pt x="21600" y="17280"/>
                </a:lnTo>
                <a:lnTo>
                  <a:pt x="12226" y="12201"/>
                </a:lnTo>
                <a:lnTo>
                  <a:pt x="12226" y="14559"/>
                </a:lnTo>
                <a:arcTo wR="21600" hR="7659" stAng="8618603" swAng="1859302"/>
                <a:lnTo>
                  <a:pt x="721" y="9621"/>
                </a:lnTo>
                <a:arcTo wR="21600" hR="7659" stAng="-10477905" swAng="5077905"/>
                <a:close/>
              </a:path>
              <a:path fill="darkenLess" w="21600" h="21600">
                <a:moveTo>
                  <a:pt x="21600" y="0"/>
                </a:moveTo>
                <a:arcTo wR="21600" hR="7659" stAng="-5400000" swAng="-5400000"/>
                <a:lnTo>
                  <a:pt x="0" y="7659"/>
                </a:lnTo>
                <a:arcTo wR="21600" hR="7659" stAng="10800000" swAng="-322095"/>
                <a:lnTo>
                  <a:pt x="721" y="9621"/>
                </a:lnTo>
                <a:arcTo wR="21600" hR="7659" stAng="-10477905" swAng="507790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668-5028-4B7F-96B0-BAD0EA868D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5589720"/>
            <a:ext cx="91440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進出したブラン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052640"/>
            <a:ext cx="2592720" cy="26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飲料売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421000"/>
            <a:ext cx="2017800" cy="1150920"/>
          </a:xfrm>
          <a:prstGeom prst="ellipse">
            <a:avLst/>
          </a:prstGeom>
          <a:solidFill>
            <a:srgbClr val="e2c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午後の紅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1052640"/>
            <a:ext cx="2592360" cy="2663640"/>
          </a:xfrm>
          <a:prstGeom prst="rect">
            <a:avLst/>
          </a:prstGeom>
          <a:solidFill>
            <a:srgbClr val="e2c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製菓売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2349360"/>
            <a:ext cx="2232000" cy="1222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森永午後の紅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ビスケ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716280"/>
            <a:ext cx="5040360" cy="790560"/>
          </a:xfrm>
          <a:custGeom>
            <a:avLst/>
            <a:gdLst>
              <a:gd name="textAreaLeft" fmla="*/ 882000 w 5040360"/>
              <a:gd name="textAreaRight" fmla="*/ 3654360 w 5040360"/>
              <a:gd name="textAreaTop" fmla="*/ 105840 h 790560"/>
              <a:gd name="textAreaBottom" fmla="*/ 6847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2852640"/>
            <a:ext cx="237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飲料ブランド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製菓売場に進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084640"/>
            <a:ext cx="50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売場が変わったブランド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692280"/>
            <a:ext cx="3529080" cy="331308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07E-18D2-4866-BD49-2742EBC4B1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研究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484280"/>
            <a:ext cx="8425080" cy="4897440"/>
          </a:xfrm>
          <a:prstGeom prst="horizontalScroll">
            <a:avLst>
              <a:gd name="adj" fmla="val 655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コラボレーションする事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「進出したブランド」に対す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消費者の認知にどのよう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影響を与えるのか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明らかにするこ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A8B-411C-42EE-8C8B-D60E4B2D4E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今後の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21B-A0C7-4BD5-9046-1EF335EC4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3141720"/>
            <a:ext cx="3095640" cy="1871640"/>
          </a:xfrm>
          <a:prstGeom prst="rect">
            <a:avLst/>
          </a:prstGeom>
          <a:solidFill>
            <a:srgbClr val="bbe0e3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ラボレーション商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を見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851640" y="3213720"/>
            <a:ext cx="1152720" cy="1871640"/>
          </a:xfrm>
          <a:prstGeom prst="downArrow">
            <a:avLst>
              <a:gd name="adj1" fmla="val 50000"/>
              <a:gd name="adj2" fmla="val 40592"/>
            </a:avLst>
          </a:pr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3068640"/>
            <a:ext cx="2627280" cy="1800360"/>
          </a:xfrm>
          <a:prstGeom prst="rect">
            <a:avLst/>
          </a:prstGeom>
          <a:solidFill>
            <a:srgbClr val="bbe0e3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味を融合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5013360"/>
            <a:ext cx="1871640" cy="1366920"/>
          </a:xfrm>
          <a:prstGeom prst="wedgeRoundRectCallout">
            <a:avLst>
              <a:gd name="adj1" fmla="val 7759"/>
              <a:gd name="adj2" fmla="val -965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経験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い出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5373720"/>
            <a:ext cx="37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進出した商品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再認知す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208764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08000" y="1268280"/>
            <a:ext cx="2376720" cy="1727280"/>
          </a:xfrm>
          <a:prstGeom prst="cloudCallout">
            <a:avLst>
              <a:gd name="adj1" fmla="val 44921"/>
              <a:gd name="adj2" fmla="val 113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32360" y="1700280"/>
            <a:ext cx="1728720" cy="121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43640" y="22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21440" y="1700280"/>
            <a:ext cx="1076400" cy="1297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93080" y="184464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6920" y="196920"/>
            <a:ext cx="49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ラボレーション商品を理解するまでの過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36B-8C79-43D6-BDA7-63B4A446F3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87280" y="4869000"/>
            <a:ext cx="6985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進出するブランド陳腐化の防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916280"/>
            <a:ext cx="6985080" cy="11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進出するブランドの再認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284640"/>
            <a:ext cx="1368360" cy="1511280"/>
          </a:xfrm>
          <a:prstGeom prst="downArrow">
            <a:avLst>
              <a:gd name="adj1" fmla="val 43426"/>
              <a:gd name="adj2" fmla="val 3708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476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推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F1B-319F-4A4C-914F-35ECAAF3AF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今後の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844640"/>
            <a:ext cx="8785440" cy="4392720"/>
          </a:xfrm>
          <a:prstGeom prst="horizontalScroll">
            <a:avLst>
              <a:gd name="adj" fmla="val 534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コラボレーションすることによ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進出したブランド」の陳腐化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防止するのか研究す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1F8-8E33-4171-98E6-4E9F30C553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参考文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バーンド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シュミット『経験価値マネジメント』　ダイヤモンド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００４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久保　仲人『消費者行動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Behavi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』 ダイヤモンド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００５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蔵　貴士『消費者情報処理の統合モデル』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００５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田中　洋・清水　聡『消費者・コミュニケーション戦略ー現代のマーケティング戦略④」　有斐閣アル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００６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蔵　貴士『市場、カテゴリー、そしてブランド：カテゴリー中心型ブランドマーケティングとカテゴリー創造型ブランドマーケティング』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００７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田中　洋『消費者行動論体系』　中央経済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００８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蔵　貴士『ブランド・アイデンティフィケーション：対象の同定と記憶システム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００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0EB-FC10-492C-B4FF-FA42FA1666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発表の流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問題意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コラボレーションの定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研究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今後の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156-9128-4520-BB2D-232B05BBDA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8675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ご清聴ありがとうございまし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83B-11D5-41D0-9540-FD9E974854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問題意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BF5-AAF7-448A-9B90-347CE50E03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484280"/>
            <a:ext cx="3311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スト削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顧客、販路の拡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期的な売り上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話題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鮮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60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「コラボレーション商品の目的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084640"/>
            <a:ext cx="799128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消費者のコラボレーション商品へ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認知に注目す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708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消費者の目に留まらせることが重要であるのではない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2781360"/>
            <a:ext cx="1008000" cy="865080"/>
          </a:xfrm>
          <a:prstGeom prst="rightArrow">
            <a:avLst>
              <a:gd name="adj1" fmla="val 50000"/>
              <a:gd name="adj2" fmla="val 2913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87B-9E78-4EA6-8972-CCA746A2B9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問題意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557360"/>
            <a:ext cx="8569080" cy="43927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コラボレーション商品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消費者の認知にどの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な影響を与えている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8BD-F46E-4577-B4A0-9E7B0EC65E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コラボレーションの定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9C7-0C3B-4A92-BD06-F1ED285920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コラボレーションの意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268280"/>
            <a:ext cx="8353440" cy="5329440"/>
          </a:xfrm>
          <a:prstGeom prst="foldedCorner">
            <a:avLst>
              <a:gd name="adj" fmla="val 12500"/>
            </a:avLst>
          </a:prstGeom>
          <a:solidFill>
            <a:srgbClr val="ccffff">
              <a:alpha val="2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共同制作。共同事業。企業同士の共同開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（大辞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異なる業種・業態間での共同作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いの利点を生かしながら異業種と組むことで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たな相乗効果を出す狙いが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　　　　　　　（経済新語辞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229-506D-4421-A3A4-90317F5EC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コラボレーションの意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268280"/>
            <a:ext cx="8353440" cy="5329440"/>
          </a:xfrm>
          <a:prstGeom prst="foldedCorner">
            <a:avLst>
              <a:gd name="adj" fmla="val 12500"/>
            </a:avLst>
          </a:prstGeom>
          <a:solidFill>
            <a:srgbClr val="ccffff">
              <a:alpha val="2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共同制作。共同事業。企業同士の共同開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（大辞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異なる業種・業態間での共同作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いの利点を生かしながら異業種と組むことで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たな相乗効果を出す狙いが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　　　　　　　（経済新語辞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852640"/>
            <a:ext cx="8831520" cy="24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消費者にコラボレーション商品と認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されていなければコラボレーション商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と言えないのではない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255-C8D2-4C76-8CE5-A9C3587D32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3312"/>
                </a:solidFill>
                <a:latin typeface="Arial"/>
              </a:rPr>
              <a:t>外見で</a:t>
            </a:r>
            <a:r>
              <a:rPr b="0" lang="zh-CN" sz="4000" spc="-1" strike="noStrike">
                <a:solidFill>
                  <a:srgbClr val="fc3312"/>
                </a:solidFill>
                <a:latin typeface="Arial"/>
              </a:rPr>
              <a:t>「</a:t>
            </a:r>
            <a:r>
              <a:rPr b="0" lang="en-US" sz="4000" spc="-1" strike="noStrike">
                <a:solidFill>
                  <a:srgbClr val="fc3312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c3312"/>
                </a:solidFill>
                <a:latin typeface="Arial"/>
              </a:rPr>
              <a:t>つのブランドの存在」</a:t>
            </a:r>
            <a:r>
              <a:rPr b="0" lang="zh-CN" sz="3600" spc="-1" strike="noStrike">
                <a:solidFill>
                  <a:srgbClr val="fc3312"/>
                </a:solidFill>
                <a:latin typeface="Arial"/>
              </a:rPr>
              <a:t>を認知でき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800" y="1844640"/>
            <a:ext cx="2014560" cy="3500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700280"/>
            <a:ext cx="244800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05080" y="2205000"/>
            <a:ext cx="5183280" cy="2913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5734080"/>
            <a:ext cx="7848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コラボレーション商品と定義す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512-069B-44A3-899D-5054816E81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40:46Z</dcterms:created>
  <dc:creator>電算課</dc:creator>
  <dc:description/>
  <dc:language>en-US</dc:language>
  <cp:lastModifiedBy>電算課</cp:lastModifiedBy>
  <dcterms:modified xsi:type="dcterms:W3CDTF">2009-09-05T10:39:16Z</dcterms:modified>
  <cp:revision>62</cp:revision>
  <dc:subject/>
  <dc:title>タオルの投げ方</dc:title>
</cp:coreProperties>
</file>